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1AF0-F7A4-4443-8373-AB30CFBFC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6290-7031-4454-AE2A-F3EED3E35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8CDB-046F-463E-A2C4-A412B7E89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3195-142F-4E3D-A237-03DE73B3E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85BED3-DF17-4E2D-9C67-065E48951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F74388-B321-4454-88E8-7D6B575E7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5F3BB3-7545-4B9B-9E1B-D6FF463BD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4D63D4-EFC2-499A-A818-7C70D3207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343A2C-E706-4244-A484-55560BAA4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229D6B-A40D-45FC-ACF9-559D921FC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10911E-4FF9-40B2-965E-392EFA7F3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3259-1BE1-4393-ADDA-9D68F20CB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AA4252-D5EA-49B2-9992-589A27B8C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8122E5-0B9F-43D0-8C7E-8A54970B8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C5ECD0-90E5-4B4B-AC45-14F4B0386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F84C4F-6EF0-40BD-84BC-D4584E093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9B4952-39B4-4651-A3B9-0CAF1B5A9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E23C-DBB3-494B-802E-CCA507FBE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8714-3C3B-4284-B0E6-C9AD80E13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201C-8674-4D5E-90C6-3A2AE9230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1ABF-7F54-4BA4-9910-F604758E1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4263-D2FF-45DF-B216-B8AB655EA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82E8-DB09-422E-AEE0-FFACF2EED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37C5-E519-4083-8038-8E750991C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B9491-37DE-4B7F-8F6F-BD65B764C8DD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4711A-3E0A-4830-86DD-1343E0E94BEE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image" Target="../media/image15.jpeg"/><Relationship Id="rId9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5400" spc="-1" strike="noStrike">
                <a:solidFill>
                  <a:srgbClr val="e3e3ff"/>
                </a:solidFill>
                <a:latin typeface="Arial"/>
              </a:rPr>
              <a:t>Toucans 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By Carol, Beracah, Thenuja and Senay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Hope you enjoy it </a:t>
            </a:r>
            <a:r>
              <a:rPr b="0" lang="en-NZ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How does it sleep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they sleep, they turns their heads around and tuck their bill under their wings and tai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e3e3ff"/>
                </a:solidFill>
                <a:latin typeface="Arial"/>
              </a:rPr>
              <a:t>Fast fact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Type: Bi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Diet: omnivo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Average life span in the wild : up to 20 yea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Size: body, 25 in ( 63.5 cm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Group name: flo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Toucans are close relatives of woodpeck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4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e3e3ff"/>
                </a:solidFill>
                <a:latin typeface="Arial"/>
              </a:rPr>
              <a:t>Funny photo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Cool!!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 rot="595800">
            <a:off x="7164000" y="3715920"/>
            <a:ext cx="1695600" cy="202428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2124000" y="5076720"/>
            <a:ext cx="2562480" cy="178128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7020000" y="549360"/>
            <a:ext cx="1704960" cy="26766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4"/>
          <a:stretch/>
        </p:blipFill>
        <p:spPr>
          <a:xfrm>
            <a:off x="0" y="2276640"/>
            <a:ext cx="2381400" cy="19238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5"/>
          <a:stretch/>
        </p:blipFill>
        <p:spPr>
          <a:xfrm>
            <a:off x="0" y="4869000"/>
            <a:ext cx="2016000" cy="10872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6"/>
          <a:stretch/>
        </p:blipFill>
        <p:spPr>
          <a:xfrm>
            <a:off x="5003640" y="4697280"/>
            <a:ext cx="1872000" cy="21607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7"/>
          <a:stretch/>
        </p:blipFill>
        <p:spPr>
          <a:xfrm>
            <a:off x="2987640" y="2852640"/>
            <a:ext cx="1100160" cy="20163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8"/>
          <a:stretch/>
        </p:blipFill>
        <p:spPr>
          <a:xfrm>
            <a:off x="4284720" y="1557360"/>
            <a:ext cx="24001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e3e3ff"/>
                </a:solidFill>
                <a:latin typeface="Arial"/>
              </a:rPr>
              <a:t>Credits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By Senaya </a:t>
            </a:r>
            <a:r>
              <a:rPr b="0" lang="en-NZ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By Beracah</a:t>
            </a:r>
            <a:r>
              <a:rPr b="0" lang="en-NZ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By Carol</a:t>
            </a:r>
            <a:r>
              <a:rPr b="0" lang="en-NZ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By Thenuja</a:t>
            </a:r>
            <a:r>
              <a:rPr b="0" lang="en-NZ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Thank you watching this  PowerPoi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Rating= </a:t>
            </a:r>
            <a:r>
              <a:rPr b="0" lang="en-NZ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 (ok ) </a:t>
            </a:r>
            <a:r>
              <a:rPr b="0" lang="en-NZ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Group rating= * * * * *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04000" y="981000"/>
            <a:ext cx="865080" cy="865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5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5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5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5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5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5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50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50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50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50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50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50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5000" fill="hold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5000" fill="hold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5000" fill="hold"/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5000" fill="hold"/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2" restart="whenNotActive" nodeType="interactiveSeq" fill="hold">
                <p:stCondLst>
                  <p:cond evt="onClick">
                    <p:tgtEl>
                      <p:spTgt spid="163"/>
                    </p:tgtEl>
                  </p:cond>
                </p:stCondLst>
                <p:childTnLst>
                  <p:par>
                    <p:cTn id="283" fill="hold">
                      <p:stCondLst>
                        <p:cond evt="onClick">
                          <p:tgtEl>
                            <p:spTgt spid="163"/>
                          </p:tgtEl>
                        </p:cond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6" dur="5398" fill="hold"/>
                                        <p:tgtEl>
                                          <p:spTgt spid="1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e3e3ff"/>
                </a:solidFill>
                <a:latin typeface="Arial"/>
              </a:rPr>
              <a:t>Home of the touca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The home of the toucan is the South America tropical fores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   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   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68360" y="2924280"/>
            <a:ext cx="2550960" cy="30225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3492360" y="2924280"/>
            <a:ext cx="5040360" cy="3436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768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" dur="768" fill="hold"/>
                                        <p:tgtEl>
                                          <p:spTgt spid="12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" dur="768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" dur="768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e3e3ff"/>
                </a:solidFill>
                <a:latin typeface="Arial"/>
              </a:rPr>
              <a:t>Die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Toco toucans eat insects and sometimes they eat young birds ,eggs or lizar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547640" y="3141720"/>
            <a:ext cx="1862280" cy="19429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4427640" y="2997360"/>
            <a:ext cx="3768480" cy="250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48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898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898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0" lang="en-NZ" sz="4400" spc="-1" strike="noStrike">
                <a:solidFill>
                  <a:srgbClr val="e3e3ff"/>
                </a:solidFill>
                <a:latin typeface="Arial"/>
              </a:rPr>
              <a:t>The bill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The 7.5 inch long (19cm long) bill use it to pick food. A toucans bill is a useful th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for foo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The toucan’s bill is useful as a feeding too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The birds use them to reach fruit on branches that are to small to support their weight, and also to skin their picking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More facts about bills!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use their beaks to reach fruit or to pull chicks of the nest ho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oucans bill looks  heavy  but its ligh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ucan talk with loud, croaking soun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bills colour may be black, blue, brown, green, red, white, yellow or a combination of colour. The bright color on the bill help to attract a toucan ma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3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e3e3ff"/>
                </a:solidFill>
                <a:latin typeface="Arial"/>
              </a:rPr>
              <a:t>Babi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Toucans lay 2~4 white eggs in their nest, when the eggs hatch, the young emerge don’t have any down ( fine feathers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 rot="1164000">
            <a:off x="4716000" y="3573360"/>
            <a:ext cx="2347920" cy="20811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e3e3ff"/>
                </a:solidFill>
                <a:latin typeface="Arial"/>
              </a:rPr>
              <a:t>Adaptation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Toucans have three adaptations that help them survive. The first one is that they have bills to eat food. The second adaptation they have claws on each leg. They have 2 legs to grasp onto branches. The last adaptation is the colour it’s feather changed in order to blend into it’s surrounding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e3e3ff"/>
                </a:solidFill>
                <a:latin typeface="Arial"/>
              </a:rPr>
              <a:t>Predator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The toucans predators are humans, big cats and it’s worst enemy is the jaguar. When predators come the toucan camouflages with its bright colour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556000" y="3789360"/>
            <a:ext cx="3744720" cy="272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Gam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only people can play games, toucans can play too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ucans mates play games of catch, toss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rr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2340000" y="3573360"/>
            <a:ext cx="2881440" cy="216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6T19:35:09Z</dcterms:created>
  <dc:creator>5f09</dc:creator>
  <dc:description/>
  <dc:language>en-US</dc:language>
  <cp:lastModifiedBy>Samuel</cp:lastModifiedBy>
  <dcterms:modified xsi:type="dcterms:W3CDTF">2012-11-09T01:19:02Z</dcterms:modified>
  <cp:revision>51</cp:revision>
  <dc:subject/>
  <dc:title>Toucan</dc:title>
</cp:coreProperties>
</file>